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7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6B07-6113-4F9B-B8E7-F133537E49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B022-F872-4F4D-8FF5-A641BBC2EBC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8ACC-1D62-4FD6-A17B-178758A3D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71E9-C497-40FA-B424-23254381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FDA6-2A18-4284-A28D-842D43583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0738-7124-4A8F-A467-7D2EED49C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16AF-75EC-4DC6-BCE1-B28CC144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6F22-ADFA-4A40-A1C7-1525317F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7706-F7B2-4C1B-910F-7A9D009C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7E34-B4E7-47E8-BFD4-20E14D88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7B06-3EAA-4A9C-B2A1-91493CD9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7460-4BDF-4BC2-A7C0-E1378B2F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7548-5394-49C6-B980-8CBEE343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A1A3-999B-489F-865D-21E6A5F5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367A-BB9E-4204-9C26-1BE3F6606A9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pedsovet.su/load/321-1-0-36995" TargetMode="External"/><Relationship Id="rId2" Type="http://schemas.openxmlformats.org/officeDocument/2006/relationships/hyperlink" Target="http://class-fizika.narod.ru/9_19.htm" TargetMode="External"/><Relationship Id="rId3" Type="http://schemas.openxmlformats.org/officeDocument/2006/relationships/hyperlink" Target="http://www.youtube.com/watch?v=YBvudovcuUY" TargetMode="External"/><Relationship Id="rId4" Type="http://schemas.openxmlformats.org/officeDocument/2006/relationships/hyperlink" Target="http://www.alleng.ru/d/phys/phys_ege-tr.htm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Скругленный прямоугольник 4"/>
          <p:cNvSpPr/>
          <p:nvPr/>
        </p:nvSpPr>
        <p:spPr>
          <a:xfrm>
            <a:off x="857160" y="2143080"/>
            <a:ext cx="7786800" cy="20718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Импульс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Закон сохранения импульс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/>
          <p:cNvSpPr/>
          <p:nvPr/>
        </p:nvSpPr>
        <p:spPr>
          <a:xfrm>
            <a:off x="1928880" y="500040"/>
            <a:ext cx="5500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рок физики в 10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7"/>
          <p:cNvSpPr/>
          <p:nvPr/>
        </p:nvSpPr>
        <p:spPr>
          <a:xfrm>
            <a:off x="1857240" y="4786200"/>
            <a:ext cx="5572440" cy="1285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физ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У Николаевской сош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ушкина Т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Известна старинная легенда о богаче с мешком золотых, который, оказавшись на абсолютно гладком льду озера, замерз, но не пожелал расстаться с богатством. А ведь он мог спастись, если бы не был так жаден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 Narrow"/>
              </a:rPr>
              <a:t>Достаточно было оттолкнуть от себя мешок с золотом, и богач сам заскользил бы по льду в противоположную сторону по закону сохранения импуль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А как бы ты поступил на его месте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151280" y="2651760"/>
            <a:ext cx="6741000" cy="148320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</a:rPr>
              <a:t>Готовимся к ЕГЭ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6"/>
          <p:cNvSpPr/>
          <p:nvPr/>
        </p:nvSpPr>
        <p:spPr>
          <a:xfrm>
            <a:off x="357120" y="428760"/>
            <a:ext cx="8358120" cy="221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Часть А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На горизонтальной поверхности находится тележка массой 20 кг, на которой стоит человек массой 60 кг. Человек начинает двигаться вдоль тележки с постоянной скоростью, тележка при этом начинает катиться без трения. Модуль скорости тележки относительно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7"/>
          <p:cNvSpPr/>
          <p:nvPr/>
        </p:nvSpPr>
        <p:spPr>
          <a:xfrm>
            <a:off x="500040" y="3071880"/>
            <a:ext cx="8072640" cy="314316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ольше модуля скорости человека относительно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ньше модуля скорости человека относительно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вен модулю скорости человека относительно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жет быть как больше, так и меньше модуля скорости человека относительно поверх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8"/>
          <p:cNvSpPr/>
          <p:nvPr/>
        </p:nvSpPr>
        <p:spPr>
          <a:xfrm>
            <a:off x="2357280" y="3071880"/>
            <a:ext cx="3857760" cy="271440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285840" y="428760"/>
            <a:ext cx="8358120" cy="221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5010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Часть 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 Легковой автомобиль и грузовик движутся со скоростями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= 108 км/ч и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= 54 км/ч соответственно. Их массы соответственно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= 1000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г и      = 3000 кг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 сколько импульс  грузовика больше импульса легкового автомобиля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499840" y="3143160"/>
            <a:ext cx="371484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15000 кг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/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45000 кг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/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30000 кг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/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60000 кг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/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Содержимое 4"/>
              <p:cNvSpPr txBox="1"/>
              <p:nvPr/>
            </p:nvSpPr>
            <p:spPr>
              <a:xfrm>
                <a:off x="4143240" y="1214280"/>
                <a:ext cx="50004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6143760" y="1214280"/>
                <a:ext cx="53316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indefinite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65" dur="indefinite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6" dur="indefinite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57120" y="35712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Часть 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ва шари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инаковой массой        движу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динаковыми по модул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оростями вдоль горизонтальн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скости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Известно, что дл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стемы тел, включающей об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арика, проекция импульса на ос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больше нуля, 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дуль проекции импульса на ос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больше модул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екции импульса на ос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В этом случае направл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орости второго шарика должно совпадать с направлением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означенным цифр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Содержимое 4"/>
              <p:cNvSpPr txBox="1"/>
              <p:nvPr/>
            </p:nvSpPr>
            <p:spPr>
              <a:xfrm>
                <a:off x="3071880" y="714240"/>
                <a:ext cx="50004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5143680" y="285840"/>
            <a:ext cx="375264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indefinite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49" dur="indefinite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0" dur="indefinite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3"/>
          <p:cNvSpPr/>
          <p:nvPr/>
        </p:nvSpPr>
        <p:spPr>
          <a:xfrm>
            <a:off x="714240" y="3571920"/>
            <a:ext cx="2000520" cy="235728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8"/>
          <p:cNvSpPr/>
          <p:nvPr/>
        </p:nvSpPr>
        <p:spPr>
          <a:xfrm>
            <a:off x="357120" y="500040"/>
            <a:ext cx="8429760" cy="228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85520" y="2999880"/>
            <a:ext cx="197172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Прямоугольник 4"/>
          <p:cNvSpPr/>
          <p:nvPr/>
        </p:nvSpPr>
        <p:spPr>
          <a:xfrm>
            <a:off x="428760" y="571680"/>
            <a:ext cx="8286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Часть 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Шар скользит по столу и налетает на второй такой же покоящийся шар. Ученики изобразили векторы импульсов шаров до соударения (верхняя часть рисунка) и после него (нижняя часть рисунка). Какой рисунок выполнен правиль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4" descr=""/>
          <p:cNvPicPr/>
          <p:nvPr/>
        </p:nvPicPr>
        <p:blipFill>
          <a:blip r:embed="rId1"/>
          <a:stretch/>
        </p:blipFill>
        <p:spPr>
          <a:xfrm>
            <a:off x="3000240" y="2786040"/>
            <a:ext cx="581040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98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8"/>
          <p:cNvSpPr/>
          <p:nvPr/>
        </p:nvSpPr>
        <p:spPr>
          <a:xfrm>
            <a:off x="285840" y="3714840"/>
            <a:ext cx="3857400" cy="207144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7"/>
          <p:cNvSpPr/>
          <p:nvPr/>
        </p:nvSpPr>
        <p:spPr>
          <a:xfrm>
            <a:off x="285840" y="357120"/>
            <a:ext cx="6429240" cy="32148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57120" y="428760"/>
            <a:ext cx="678672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Часть 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По гладкой горизонтальн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оскости движутся два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ссами      и      со скоростями    и  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результате соударения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ипаются и движутся как едино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лое. Проекция импульса этой систе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ось Ох после соударения буд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rcRect l="70254" t="0" r="0" b="21301"/>
          <a:stretch/>
        </p:blipFill>
        <p:spPr>
          <a:xfrm>
            <a:off x="6662880" y="357120"/>
            <a:ext cx="2350800" cy="3214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6" name="Object 3"/>
              <p:cNvSpPr txBox="1"/>
              <p:nvPr/>
            </p:nvSpPr>
            <p:spPr>
              <a:xfrm>
                <a:off x="1857240" y="1357200"/>
                <a:ext cx="3733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2571840" y="1357200"/>
                <a:ext cx="3985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6"/>
              <p:cNvSpPr txBox="1"/>
              <p:nvPr/>
            </p:nvSpPr>
            <p:spPr>
              <a:xfrm>
                <a:off x="5273640" y="1357200"/>
                <a:ext cx="2984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7"/>
              <p:cNvSpPr txBox="1"/>
              <p:nvPr/>
            </p:nvSpPr>
            <p:spPr>
              <a:xfrm>
                <a:off x="5786280" y="1357200"/>
                <a:ext cx="3477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0" name="Содержимое 2"/>
          <p:cNvSpPr/>
          <p:nvPr/>
        </p:nvSpPr>
        <p:spPr>
          <a:xfrm>
            <a:off x="285840" y="3500280"/>
            <a:ext cx="800100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одержимое 2"/>
          <p:cNvSpPr/>
          <p:nvPr/>
        </p:nvSpPr>
        <p:spPr>
          <a:xfrm>
            <a:off x="357120" y="3786120"/>
            <a:ext cx="371484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2640" indent="-512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а        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а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8"/>
              <p:cNvSpPr txBox="1"/>
              <p:nvPr/>
            </p:nvSpPr>
            <p:spPr>
              <a:xfrm>
                <a:off x="2143080" y="3786120"/>
                <a:ext cx="7063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9"/>
              <p:cNvSpPr txBox="1"/>
              <p:nvPr/>
            </p:nvSpPr>
            <p:spPr>
              <a:xfrm>
                <a:off x="2214720" y="4214880"/>
                <a:ext cx="7650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0"/>
              <p:cNvSpPr txBox="1"/>
              <p:nvPr/>
            </p:nvSpPr>
            <p:spPr>
              <a:xfrm>
                <a:off x="1857240" y="4643280"/>
                <a:ext cx="70668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1"/>
              <p:cNvSpPr txBox="1"/>
              <p:nvPr/>
            </p:nvSpPr>
            <p:spPr>
              <a:xfrm>
                <a:off x="2857680" y="4643280"/>
                <a:ext cx="76500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2"/>
              <p:cNvSpPr txBox="1"/>
              <p:nvPr/>
            </p:nvSpPr>
            <p:spPr>
              <a:xfrm>
                <a:off x="2143080" y="5072040"/>
                <a:ext cx="7063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8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2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§39-41 (Мякишев Г.Я. Физика.10 класс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пр.8(1,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оставить тест, состоящий из заданий части А ЕГЭ по теме «Импульс. Закон сохранения импульса»(3-5 заданий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Заголовок 4"/>
          <p:cNvSpPr/>
          <p:nvPr/>
        </p:nvSpPr>
        <p:spPr>
          <a:xfrm>
            <a:off x="1643040" y="274680"/>
            <a:ext cx="6000840" cy="1154160"/>
          </a:xfrm>
          <a:prstGeom prst="roundRect">
            <a:avLst>
              <a:gd name="adj" fmla="val 16667"/>
            </a:avLst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омашнее зада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спользуемые ресур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нчевская О.В. Физика в таблицах и схемах.- Издательский дом «Литера»,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http://pedsovet.su/load/321-1-0-3699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шаблон для презентаци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http://class-fizika.narod.ru/9_19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3"/>
              </a:rPr>
              <a:t>http://www.youtube.com/watch?v=YBvudovcuU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4"/>
              </a:rPr>
              <a:t>http://www.alleng.ru/d/phys/phys_ege-tr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57120" y="1285920"/>
            <a:ext cx="82584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оны Ньютона выполняются в инерциальных системах отсч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тяжести приложена к Земл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с тела всегда направлен вни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корение тела обратно пропорционально массе те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трения зависит от площади соприкасающихся поверхност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– величина вектор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тяжести имеет электромагнитную природ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реакции опоры –это сила упруг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2000160" y="285840"/>
            <a:ext cx="5286600" cy="1000080"/>
          </a:xfrm>
          <a:prstGeom prst="roundRect">
            <a:avLst>
              <a:gd name="adj" fmla="val 16667"/>
            </a:avLst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Задание с ключ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1643040" y="5643720"/>
            <a:ext cx="5286240" cy="1000080"/>
          </a:xfrm>
          <a:prstGeom prst="roundRect">
            <a:avLst>
              <a:gd name="adj" fmla="val 16667"/>
            </a:avLst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Ответ:  100101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2"/>
          <p:cNvSpPr/>
          <p:nvPr/>
        </p:nvSpPr>
        <p:spPr>
          <a:xfrm>
            <a:off x="428760" y="1571760"/>
            <a:ext cx="2714400" cy="100008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импульс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и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врем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векторная физическая величина, являющаяся </a:t>
            </a:r>
            <a:r>
              <a:rPr b="1" lang="ru-RU" sz="2800" spc="-1" strike="noStrike">
                <a:solidFill>
                  <a:srgbClr val="002060"/>
                </a:solidFill>
                <a:latin typeface="Arial Narrow"/>
              </a:rPr>
              <a:t>мерой действ</a:t>
            </a: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ия силы за некоторый промежуток време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27600" y="342000"/>
            <a:ext cx="5316840" cy="104184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Импульс сил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Содержимое 10"/>
              <p:cNvSpPr txBox="1"/>
              <p:nvPr/>
            </p:nvSpPr>
            <p:spPr>
              <a:xfrm>
                <a:off x="3214800" y="1785960"/>
                <a:ext cx="13237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Н</m:t>
                        </m:r>
                        <m:r>
                          <m:t xml:space="preserve">⋅</m:t>
                        </m:r>
                        <m:r>
                          <m:t xml:space="preserve">с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5"/>
              <p:cNvSpPr txBox="1"/>
              <p:nvPr/>
            </p:nvSpPr>
            <p:spPr>
              <a:xfrm>
                <a:off x="714240" y="3071880"/>
                <a:ext cx="4921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714240" y="3714840"/>
                <a:ext cx="4255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7"/>
              <p:cNvSpPr txBox="1"/>
              <p:nvPr/>
            </p:nvSpPr>
            <p:spPr>
              <a:xfrm>
                <a:off x="785880" y="4143240"/>
                <a:ext cx="3445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8"/>
              <p:cNvSpPr txBox="1"/>
              <p:nvPr/>
            </p:nvSpPr>
            <p:spPr>
              <a:xfrm>
                <a:off x="714240" y="1643040"/>
                <a:ext cx="19288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3"/>
          <p:cNvSpPr/>
          <p:nvPr/>
        </p:nvSpPr>
        <p:spPr>
          <a:xfrm>
            <a:off x="1143000" y="5143680"/>
            <a:ext cx="1928880" cy="78552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6"/>
          <p:cNvSpPr/>
          <p:nvPr/>
        </p:nvSpPr>
        <p:spPr>
          <a:xfrm>
            <a:off x="500040" y="1643040"/>
            <a:ext cx="2286000" cy="92880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842120" y="330840"/>
            <a:ext cx="5173920" cy="104184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Импульс те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71680" y="15717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импульс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мас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корость тел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векторная физическая величина, являющаяся </a:t>
            </a:r>
            <a:r>
              <a:rPr b="1" lang="ru-RU" sz="2800" spc="-1" strike="noStrike">
                <a:solidFill>
                  <a:srgbClr val="002060"/>
                </a:solidFill>
                <a:latin typeface="Arial Narrow"/>
              </a:rPr>
              <a:t>мерой механического движ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2"/>
              <p:cNvSpPr txBox="1"/>
              <p:nvPr/>
            </p:nvSpPr>
            <p:spPr>
              <a:xfrm>
                <a:off x="714240" y="1666800"/>
                <a:ext cx="19288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Содержимое 10"/>
              <p:cNvSpPr txBox="1"/>
              <p:nvPr/>
            </p:nvSpPr>
            <p:spPr>
              <a:xfrm>
                <a:off x="2913120" y="1785960"/>
                <a:ext cx="19288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кг</m:t>
                            </m:r>
                            <m:r>
                              <m:t xml:space="preserve">⋅</m:t>
                            </m:r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571680" y="3214800"/>
                <a:ext cx="5904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500040" y="3714840"/>
                <a:ext cx="63972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7"/>
              <p:cNvSpPr txBox="1"/>
              <p:nvPr/>
            </p:nvSpPr>
            <p:spPr>
              <a:xfrm>
                <a:off x="573120" y="4143240"/>
                <a:ext cx="4921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8"/>
              <p:cNvSpPr txBox="1"/>
              <p:nvPr/>
            </p:nvSpPr>
            <p:spPr>
              <a:xfrm>
                <a:off x="1200240" y="5143680"/>
                <a:ext cx="16574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↑</m:t>
                    </m:r>
                    <m:r>
                      <m:t xml:space="preserve">↑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0"/>
          <p:cNvSpPr/>
          <p:nvPr/>
        </p:nvSpPr>
        <p:spPr>
          <a:xfrm>
            <a:off x="357120" y="1571760"/>
            <a:ext cx="4071960" cy="464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3"/>
          <p:cNvSpPr/>
          <p:nvPr/>
        </p:nvSpPr>
        <p:spPr>
          <a:xfrm>
            <a:off x="428760" y="1571760"/>
            <a:ext cx="3929040" cy="78552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1"/>
          <p:cNvSpPr/>
          <p:nvPr/>
        </p:nvSpPr>
        <p:spPr>
          <a:xfrm>
            <a:off x="4643280" y="1571760"/>
            <a:ext cx="4143600" cy="464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Закон сохранения импуль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56760" y="15001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 Narrow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Arial Narrow"/>
              </a:rPr>
              <a:t>Векторная сумма (геометрическая) импульсов тел в замкнутой системе остается величиной постоянн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2060"/>
                </a:solidFill>
                <a:uFillTx/>
                <a:latin typeface="Arial Narrow"/>
              </a:rPr>
              <a:t>Закон можно применять</a:t>
            </a: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а) если  равнодействующая внешних сил равна нулю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б) для проекции на какую-либо ось, если проекция равнодействующей на эту ось равна нулю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2"/>
              <p:cNvSpPr txBox="1"/>
              <p:nvPr/>
            </p:nvSpPr>
            <p:spPr>
              <a:xfrm>
                <a:off x="428760" y="1714680"/>
                <a:ext cx="39448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Применение закона сохранения импульс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Закон сохранения импульса при стрельбе из орудия.avi" descr=""/>
          <p:cNvPicPr/>
          <p:nvPr/>
        </p:nvPicPr>
        <p:blipFill>
          <a:blip r:embed="rId1"/>
          <a:stretch/>
        </p:blipFill>
        <p:spPr>
          <a:xfrm>
            <a:off x="2895480" y="2490840"/>
            <a:ext cx="3353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4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Из истории реактивного движ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51148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Arial Narrow"/>
              </a:rPr>
              <a:t>Первые пороховые фейерверочные и сигнальные ракеты были применены в Китае в 10 веке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 Narrow"/>
              </a:rPr>
              <a:t>В 18 веке при ведении боевых действий между Индией и Англией, а также в Русско-турецких войнах были использованы боевые раке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2" descr="http://class-fizika.narod.ru/9_class/19/k09.gif"/>
          <p:cNvPicPr/>
          <p:nvPr/>
        </p:nvPicPr>
        <p:blipFill>
          <a:blip r:embed="rId1"/>
          <a:stretch/>
        </p:blipFill>
        <p:spPr>
          <a:xfrm>
            <a:off x="5929200" y="2428920"/>
            <a:ext cx="20480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551960" y="338040"/>
            <a:ext cx="6539400" cy="96696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Живые раке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41148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Arial Narrow"/>
              </a:rPr>
              <a:t>Реактивное движение, используемое ныне в самолетах, ракетах и космических снарядах, свойственно осьминогам, кальмарам, каракатицам, медузам – все они, без исключения, используют для плавания реакцию (отдачу) выбрасываемой струи вод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" descr="http://kireas.org/images/octop91.jpg"/>
          <p:cNvPicPr/>
          <p:nvPr/>
        </p:nvPicPr>
        <p:blipFill>
          <a:blip r:embed="rId1"/>
          <a:stretch/>
        </p:blipFill>
        <p:spPr>
          <a:xfrm>
            <a:off x="4714920" y="1571760"/>
            <a:ext cx="2643120" cy="1971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http://www.timpul.md/uploads/modules/news/2010/10/17022/658x0_caracattita.jpg"/>
          <p:cNvPicPr/>
          <p:nvPr/>
        </p:nvPicPr>
        <p:blipFill>
          <a:blip r:embed="rId2"/>
          <a:stretch/>
        </p:blipFill>
        <p:spPr>
          <a:xfrm>
            <a:off x="6000840" y="3929040"/>
            <a:ext cx="278604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698840" y="330840"/>
            <a:ext cx="5888520" cy="104184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В мире растен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 Narrow"/>
              </a:rPr>
              <a:t>В южных странах ( и у нас на побережье Черного моря тоже) произрастает растение под названием "бешеный огурец"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 Narrow"/>
              </a:rPr>
              <a:t>Стреляет бешеный огурец (иначе его называют «дамский пистолет») более чем на 12 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" descr="http://class-fizika.narod.ru/9_class/19/1.jpg"/>
          <p:cNvPicPr/>
          <p:nvPr/>
        </p:nvPicPr>
        <p:blipFill>
          <a:blip r:embed="rId1"/>
          <a:stretch/>
        </p:blipFill>
        <p:spPr>
          <a:xfrm>
            <a:off x="4857840" y="2928960"/>
            <a:ext cx="354636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9T15:13:09Z</dcterms:created>
  <dc:creator>Тятьяна</dc:creator>
  <dc:description/>
  <dc:language>en-US</dc:language>
  <cp:lastModifiedBy>Тятьяна</cp:lastModifiedBy>
  <dcterms:modified xsi:type="dcterms:W3CDTF">2013-10-31T22:52:58Z</dcterms:modified>
  <cp:revision>40</cp:revision>
  <dc:subject/>
  <dc:title>Слайд 1</dc:title>
</cp:coreProperties>
</file>